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B34-2CDF-43EF-99FC-63507E72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73E-A1D6-4354-8081-9144A1BD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8A0-54ED-4E6B-BF70-3223CF1A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C3D-96D2-4D5D-9EB7-E556C88D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99D9-05DD-4085-AAF2-5EF2BB7F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72E3-EE91-4FFB-AD89-8977D7F4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1BDE1-1F59-43E3-A540-24F62AF9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2A93-12E8-4A87-ABCB-AA488A7B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70B81-31D5-4489-AC35-EADB3ECC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69198-CDC7-454A-8927-D6F07E6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EABE1-7512-4376-BDE1-B0AF627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522-8B10-45D7-ACC1-F85723B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6FAD4-272C-4F51-8606-5A1E92D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1715-D93C-4A66-B932-E947838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809A9-1DDE-4464-9B4B-F25A6AB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16008-D13B-4444-8E76-4F367523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A5C59-A1AF-4B88-8838-E819184C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CEE-0C89-451E-9193-CD612F89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1B3-0004-4AD1-AF86-D758BE9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266-8454-4B38-8441-91BDD44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E8A-FC3D-4678-8373-20BFBB61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EDF-D957-4B5D-8CA1-2C53C22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803-CF8F-47B3-B34A-7D7C1F1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911-1AF5-4845-BBBA-57C5C87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EBC-E665-42C1-ACDD-3E7C1188F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001-2AF7-47BD-88BC-49AD062F8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ntroduction to Criticis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Approaches to Literary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j0336914"/>
          <p:cNvPicPr/>
          <p:nvPr/>
        </p:nvPicPr>
        <p:blipFill>
          <a:blip r:embed="rId1"/>
          <a:stretch/>
        </p:blipFill>
        <p:spPr>
          <a:xfrm>
            <a:off x="5715000" y="5334120"/>
            <a:ext cx="8049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 Critics focus on what the work means (theme) and how it conveys its meaning (form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s believe that all the elements necessary for understanding the work are contained within the work itself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s look at the elements of form- style, structure, tone, imagery, etc.-that are found within the text. They try to determine how elements work together with the text's content to shape its effects upon read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How is the author’s style effecting this text? What techniques are us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rector’s use of colors in the sunset help to show the changing mood of Simba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graph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graphical critic uses the information about the author’s life to interpret his or her view of the world and therefore his or her wri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: How did the author’s life experiences influence what he or she wrot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graph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uthor lost his father when he was young, which provided the experience for the story. The author was trying to blame his loss on forces of evi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approach looks at the social, and cultural context that existed when the work was writte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key goal for historical critics is to understand the effect of a literary work upon its original read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What was the purpose for this text when it was originally written? How does it reflect socie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eremony in the movie accurately represents the tribal ritual of the people of Zimbabw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King shows the hopeful nature of the 1990’s when the economy was booming. .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ines how sexual identity influences tex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minist criticism believes that the sexist, patriarchal attitudes that have dominated the world for centuries have resulted in literature full of male dominance and sexual discrimin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Literary Criticis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eryone knows how to summarize what you read- you tell the basic plot, characters, etc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How are women treated in the text and why are they treated that way? How are the gender roles treat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marginalizes women. Why couldn’t Nala fight the evil? Where is Simba’s mother? Why did they need a man to save the day? This demonstrates the sexism inherent in modern literature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ychological criticism has a number of approaches, but in general, it is the study of human behavior- whether that human is the author or the charact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the study of motivations for behavio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ommon things discussed in psychological criticism include the unconscious, dream interpretations, sexual motivation, the importance of childhood on adult development, neuroses,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What caused the character to act a certain way or the author to write something as he or she di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imba looses his father he shows classic signs of depression… Scar is a narcissistic character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thological criticism studies myths and symbols common to different cultures, including various religi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key concept i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etyp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"a symbol, character, situation, or image that evokes a deep universal response." Some examples of archetypes are the cross, and colors and what they tend to represen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etypal story patterns include various stories of the creation of man, and stories about common social situations, like a first lov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: What archetypes are present in this text? What is it saying about the universal experiences of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Literary Criticis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ry criticism is what you use to go beyond summary and into interpretation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eories are methods of interpretation. There are many different ways to interpret a tex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is a reluctant hero. He is Christ like in his ability to ward off evil and bring “salvation” to his kingdom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of these critical theories can be used to interpret any given work. This includes novels, poems, short stories, song lyrics, movies,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also many more critical approaches and they go into great dep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are already using the first type of criticism we will discu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er’s Response Criticism is based on the idea that texts do not have a set meaning; meanings come from the reader and are persona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different readers may have completely different interpretations of the same tex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wise, a reader who re-reads a work later may find the work shockingly different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er-response criticism emphasizes how the reader’s background (including gender, religion, nationality, etc.) affects interpret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ugh this approach rejects the idea that a single "correct" reading exists for a literary work, it does not consider all interpretations correc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interpretation must be backed up by evidence in the tex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guiding question: How do the reader’s experiences influence his or her interpretation of the work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’s response to his father reminds me of my own relationship to my dad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7:26:57Z</dcterms:created>
  <dc:creator>MIS</dc:creator>
  <dc:description/>
  <dc:language>en-US</dc:language>
  <cp:lastModifiedBy>shmurray</cp:lastModifiedBy>
  <dcterms:modified xsi:type="dcterms:W3CDTF">2011-06-15T15:02:56Z</dcterms:modified>
  <cp:revision>4</cp:revision>
  <dc:subject/>
  <dc:title>Introduction to Criticism</dc:title>
</cp:coreProperties>
</file>